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725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51F35-322D-4F20-B42E-245CF08EF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d0101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E7871-767D-47DF-B121-8148F4B16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d0101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B4001-B394-4029-9D08-37AF96AF5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d0101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35C3E-38F5-4A8A-ABB6-31D4EDF8E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9FC33-4DAA-4A21-8E61-B50FE65A1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d0101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F79CE-7A4A-43A1-A0E2-09B4F4F64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d0101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FED3E-4B50-4EA9-AB2E-42FF29A90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d0101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FCA5F-1BF9-43DA-8551-4159336D3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d010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F5240-DA5D-40EA-B744-E26E47CC8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199D3-2BB6-4FF6-A13B-9D6DEE902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d0101"/>
              </a:solidFill>
              <a:latin typeface="Century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5D0FD-8CEF-493C-B3DC-A2B7EC6FA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d0101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AB9A4-EFC7-454E-A56F-E86711D02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d0101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56F46-EB5A-4BFF-91C0-48AA00C4E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d0101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400D1-6A3E-4A93-96D5-51DC2489E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d0101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119CC-D02A-4A0B-8E85-B16D3DB56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d0101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34CB6-E915-417F-A70E-378130ABA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d0101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13DF2-ADE3-4DB4-A674-CF6266E53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F0EE4B0-1C9A-4218-B47A-27687EB03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d0101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CC1C2A0-B437-4225-990B-F99F9404D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d0101"/>
              </a:solidFill>
              <a:latin typeface="Century Gothic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4D47C77-51CD-4C67-8D6E-7222FB5B2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d0101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49F9A8C-41E8-4DB9-B1E0-6D837EDA1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d010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59F18A5-8C66-4C51-972D-5DD003DA3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d0101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78AC8-848D-4392-9837-BB9E7C8B0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9997E83-B9C4-401A-B0D5-1C2B6C26E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d0101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BE0E681-7F5C-46D0-9544-2CA784C8B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d0101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63FB705-6756-4A3E-8DA3-487A19BCF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d0101"/>
              </a:solidFill>
              <a:latin typeface="Century Gothic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7C2FD04-C6CC-4CD9-B0DE-422F16A5E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d0101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7D14CE4-55C8-4BEF-A6D0-EA32164B1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d0101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5C984FD-EB98-475C-BF60-C1298E4DD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d0101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E81AA71-2398-4432-AE2A-03FB28199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925CB5-EE40-4371-A2E2-7B33A75F8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d0101"/>
              </a:solidFill>
              <a:latin typeface="Century Gothic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BA47FD-3FAF-4652-AAA4-6FBD89342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d0101"/>
              </a:solidFill>
              <a:latin typeface="Century Gothic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E16FF0-4623-483F-8022-F19BE2D3C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d0101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4B86C-8CDE-4F99-B630-C19A43321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d0101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9AF792-0684-4366-B2FE-B0C857A6D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d010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ABF385-DF02-4F3B-AD2A-FDBBFC839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375872-2739-4D41-B2F8-230A9D133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d0101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F5CBA8-57FC-4B9C-A6B7-2F7EB53D8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d0101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77533A-E2E5-4734-AE3D-35EB80A9D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d0101"/>
              </a:solidFill>
              <a:latin typeface="Century Gothic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57F924-288F-4F57-8121-589AC79E6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d0101"/>
              </a:solidFill>
              <a:latin typeface="Century Gothic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A0F081-86A6-46DB-B2EC-AE44CFD29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d0101"/>
              </a:solidFill>
              <a:latin typeface="Century Gothic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327A0C-506B-46A8-9273-FF0C5EDD8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d0101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7996F0-C6E7-41FC-A39D-6B0BEA365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d010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73891-923E-42D9-843F-BB3CC2BA7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2CE62-1287-4BA5-8D4D-4D3A6B398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d0101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30D20-49DC-44CE-9EF8-554281977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d0101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D9AC6-9D3B-4D43-916B-ED84A9EC1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d0101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B87AC-2BCE-4F2F-94E0-8E67E58B5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cfd2"/>
            </a:gs>
            <a:gs pos="100000">
              <a:srgbClr val="83838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1"/>
          <p:cNvGrpSpPr/>
          <p:nvPr/>
        </p:nvGrpSpPr>
        <p:grpSpPr>
          <a:xfrm>
            <a:off x="-567360" y="0"/>
            <a:ext cx="10459080" cy="7116840"/>
            <a:chOff x="-567360" y="0"/>
            <a:chExt cx="10459080" cy="7116840"/>
          </a:xfrm>
        </p:grpSpPr>
        <p:grpSp>
          <p:nvGrpSpPr>
            <p:cNvPr id="1" name="Group 44"/>
            <p:cNvGrpSpPr/>
            <p:nvPr/>
          </p:nvGrpSpPr>
          <p:grpSpPr>
            <a:xfrm>
              <a:off x="77400" y="0"/>
              <a:ext cx="9144360" cy="6858000"/>
              <a:chOff x="77400" y="0"/>
              <a:chExt cx="914436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77400" y="0"/>
                <a:ext cx="2514600" cy="6858000"/>
                <a:chOff x="77400" y="0"/>
                <a:chExt cx="2514600" cy="6858000"/>
              </a:xfrm>
            </p:grpSpPr>
            <p:sp>
              <p:nvSpPr>
                <p:cNvPr id="3" name="Rectangle 112"/>
                <p:cNvSpPr/>
                <p:nvPr/>
              </p:nvSpPr>
              <p:spPr>
                <a:xfrm>
                  <a:off x="9918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" name="Rectangle 2"/>
                <p:cNvSpPr/>
                <p:nvPr/>
              </p:nvSpPr>
              <p:spPr>
                <a:xfrm>
                  <a:off x="774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" name="Rectangle 3"/>
                <p:cNvSpPr/>
                <p:nvPr/>
              </p:nvSpPr>
              <p:spPr>
                <a:xfrm>
                  <a:off x="306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" name="Group 5"/>
              <p:cNvGrpSpPr/>
              <p:nvPr/>
            </p:nvGrpSpPr>
            <p:grpSpPr>
              <a:xfrm>
                <a:off x="500040" y="0"/>
                <a:ext cx="2514600" cy="6858000"/>
                <a:chOff x="500040" y="0"/>
                <a:chExt cx="2514600" cy="6858000"/>
              </a:xfrm>
            </p:grpSpPr>
            <p:sp>
              <p:nvSpPr>
                <p:cNvPr id="7" name="Rectangle 109"/>
                <p:cNvSpPr/>
                <p:nvPr/>
              </p:nvSpPr>
              <p:spPr>
                <a:xfrm>
                  <a:off x="14144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" name="Rectangle 110"/>
                <p:cNvSpPr/>
                <p:nvPr/>
              </p:nvSpPr>
              <p:spPr>
                <a:xfrm>
                  <a:off x="5000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9" name="Rectangle 111"/>
                <p:cNvSpPr/>
                <p:nvPr/>
              </p:nvSpPr>
              <p:spPr>
                <a:xfrm>
                  <a:off x="728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0" name="Group 9"/>
              <p:cNvGrpSpPr/>
              <p:nvPr/>
            </p:nvGrpSpPr>
            <p:grpSpPr>
              <a:xfrm>
                <a:off x="6707160" y="0"/>
                <a:ext cx="2514600" cy="6858000"/>
                <a:chOff x="6707160" y="0"/>
                <a:chExt cx="2514600" cy="6858000"/>
              </a:xfrm>
            </p:grpSpPr>
            <p:sp>
              <p:nvSpPr>
                <p:cNvPr id="11" name="Rectangle 106"/>
                <p:cNvSpPr/>
                <p:nvPr/>
              </p:nvSpPr>
              <p:spPr>
                <a:xfrm rot="10800000">
                  <a:off x="67071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2" name="Rectangle 107"/>
                <p:cNvSpPr/>
                <p:nvPr/>
              </p:nvSpPr>
              <p:spPr>
                <a:xfrm rot="10800000">
                  <a:off x="87645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" name="Rectangle 108"/>
                <p:cNvSpPr/>
                <p:nvPr/>
              </p:nvSpPr>
              <p:spPr>
                <a:xfrm rot="10800000">
                  <a:off x="82314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14" name="Rectangle 103"/>
              <p:cNvSpPr/>
              <p:nvPr/>
            </p:nvSpPr>
            <p:spPr>
              <a:xfrm>
                <a:off x="38876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" name="Rectangle 104"/>
              <p:cNvSpPr/>
              <p:nvPr/>
            </p:nvSpPr>
            <p:spPr>
              <a:xfrm>
                <a:off x="29732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" name="Rectangle 105"/>
              <p:cNvSpPr/>
              <p:nvPr/>
            </p:nvSpPr>
            <p:spPr>
              <a:xfrm>
                <a:off x="32018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7" name="Freeform 43"/>
            <p:cNvSpPr/>
            <p:nvPr/>
          </p:nvSpPr>
          <p:spPr>
            <a:xfrm>
              <a:off x="65520" y="5035320"/>
              <a:ext cx="9144720" cy="117540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" name="Freeform 44"/>
            <p:cNvSpPr/>
            <p:nvPr/>
          </p:nvSpPr>
          <p:spPr>
            <a:xfrm>
              <a:off x="65520" y="3467520"/>
              <a:ext cx="9144720" cy="89064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" name="Freeform 45"/>
            <p:cNvSpPr/>
            <p:nvPr/>
          </p:nvSpPr>
          <p:spPr>
            <a:xfrm>
              <a:off x="53640" y="5640840"/>
              <a:ext cx="300456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" name="Freeform 46"/>
            <p:cNvSpPr/>
            <p:nvPr/>
          </p:nvSpPr>
          <p:spPr>
            <a:xfrm>
              <a:off x="65520" y="5284440"/>
              <a:ext cx="9144720" cy="147852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" name="Freeform 48"/>
            <p:cNvSpPr/>
            <p:nvPr/>
          </p:nvSpPr>
          <p:spPr>
            <a:xfrm>
              <a:off x="2215080" y="5132160"/>
              <a:ext cx="6983280" cy="171972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" name="Hexagon 49"/>
            <p:cNvSpPr/>
            <p:nvPr/>
          </p:nvSpPr>
          <p:spPr>
            <a:xfrm rot="1800000">
              <a:off x="307368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" name="Hexagon 50"/>
            <p:cNvSpPr/>
            <p:nvPr/>
          </p:nvSpPr>
          <p:spPr>
            <a:xfrm rot="1800000">
              <a:off x="379800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" name="Hexagon 51"/>
            <p:cNvSpPr/>
            <p:nvPr/>
          </p:nvSpPr>
          <p:spPr>
            <a:xfrm rot="1800000">
              <a:off x="3807360" y="15919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" name="Hexagon 52"/>
            <p:cNvSpPr/>
            <p:nvPr/>
          </p:nvSpPr>
          <p:spPr>
            <a:xfrm rot="1800000">
              <a:off x="3054960" y="325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" name="Hexagon 53"/>
            <p:cNvSpPr/>
            <p:nvPr/>
          </p:nvSpPr>
          <p:spPr>
            <a:xfrm rot="1800000">
              <a:off x="4541040" y="5383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" name="Freeform 54"/>
            <p:cNvSpPr/>
            <p:nvPr/>
          </p:nvSpPr>
          <p:spPr>
            <a:xfrm rot="1800000">
              <a:off x="-304560" y="4201200"/>
              <a:ext cx="1261440" cy="138816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" name="Hexagon 55"/>
            <p:cNvSpPr/>
            <p:nvPr/>
          </p:nvSpPr>
          <p:spPr>
            <a:xfrm rot="1800000">
              <a:off x="101880" y="54021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" name="Hexagon 56"/>
            <p:cNvSpPr/>
            <p:nvPr/>
          </p:nvSpPr>
          <p:spPr>
            <a:xfrm rot="1800000">
              <a:off x="130320" y="28494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" name="Hexagon 57"/>
            <p:cNvSpPr/>
            <p:nvPr/>
          </p:nvSpPr>
          <p:spPr>
            <a:xfrm rot="1800000">
              <a:off x="85428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" name="Hexagon 58"/>
            <p:cNvSpPr/>
            <p:nvPr/>
          </p:nvSpPr>
          <p:spPr>
            <a:xfrm rot="1800000">
              <a:off x="1587960" y="54115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" name="Hexagon 59"/>
            <p:cNvSpPr/>
            <p:nvPr/>
          </p:nvSpPr>
          <p:spPr>
            <a:xfrm rot="1800000">
              <a:off x="160668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" name="Hexagon 94"/>
            <p:cNvSpPr/>
            <p:nvPr/>
          </p:nvSpPr>
          <p:spPr>
            <a:xfrm rot="1800000">
              <a:off x="873360" y="1563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" name="Hexagon 95"/>
            <p:cNvSpPr/>
            <p:nvPr/>
          </p:nvSpPr>
          <p:spPr>
            <a:xfrm rot="1800000">
              <a:off x="6884280" y="41446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" name="Hexagon 96"/>
            <p:cNvSpPr/>
            <p:nvPr/>
          </p:nvSpPr>
          <p:spPr>
            <a:xfrm rot="1800000">
              <a:off x="7627320" y="542124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" name="Hexagon 97"/>
            <p:cNvSpPr/>
            <p:nvPr/>
          </p:nvSpPr>
          <p:spPr>
            <a:xfrm rot="1800000">
              <a:off x="7627320" y="2868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" name="Freeform 98"/>
            <p:cNvSpPr/>
            <p:nvPr/>
          </p:nvSpPr>
          <p:spPr>
            <a:xfrm rot="1800000">
              <a:off x="8384400" y="4055760"/>
              <a:ext cx="1243440" cy="138816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" name="Freeform 99"/>
            <p:cNvSpPr/>
            <p:nvPr/>
          </p:nvSpPr>
          <p:spPr>
            <a:xfrm rot="1800000">
              <a:off x="8385120" y="1511280"/>
              <a:ext cx="124200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9" name="Rectangle 65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Rectangle 69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w="15840">
            <a:solidFill>
              <a:srgbClr val="6c6c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Rectangle 7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260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d0101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ad0101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ad0101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ad0101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ad0101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ad0101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ad0101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1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2"/>
          </p:nvPr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3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8351D-35FE-44BD-8502-4F7625D2AD9F}" type="slidenum"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cfd2"/>
            </a:gs>
            <a:gs pos="100000">
              <a:srgbClr val="83838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Group 60"/>
          <p:cNvGrpSpPr/>
          <p:nvPr/>
        </p:nvGrpSpPr>
        <p:grpSpPr>
          <a:xfrm>
            <a:off x="-645120" y="0"/>
            <a:ext cx="10459080" cy="7116840"/>
            <a:chOff x="-645120" y="0"/>
            <a:chExt cx="10459080" cy="7116840"/>
          </a:xfrm>
        </p:grpSpPr>
        <p:grpSp>
          <p:nvGrpSpPr>
            <p:cNvPr id="84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85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86" name="Rectangle 120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7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8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89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90" name="Rectangle 117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91" name="Rectangle 118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92" name="Rectangle 119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93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94" name="Rectangle 93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95" name="Rectangle 115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96" name="Rectangle 116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97" name="Rectangle 90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8" name="Rectangle 91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9" name="Rectangle 92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00" name="Freeform 62"/>
            <p:cNvSpPr/>
            <p:nvPr/>
          </p:nvSpPr>
          <p:spPr>
            <a:xfrm>
              <a:off x="-11880" y="5035320"/>
              <a:ext cx="9144720" cy="117540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Freeform 63"/>
            <p:cNvSpPr/>
            <p:nvPr/>
          </p:nvSpPr>
          <p:spPr>
            <a:xfrm>
              <a:off x="-11880" y="3467520"/>
              <a:ext cx="9144720" cy="89064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Freeform 64"/>
            <p:cNvSpPr/>
            <p:nvPr/>
          </p:nvSpPr>
          <p:spPr>
            <a:xfrm>
              <a:off x="-23760" y="5640840"/>
              <a:ext cx="300456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Freeform 66"/>
            <p:cNvSpPr/>
            <p:nvPr/>
          </p:nvSpPr>
          <p:spPr>
            <a:xfrm>
              <a:off x="-11880" y="5284440"/>
              <a:ext cx="9144720" cy="147852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Freeform 67"/>
            <p:cNvSpPr/>
            <p:nvPr/>
          </p:nvSpPr>
          <p:spPr>
            <a:xfrm>
              <a:off x="2137320" y="5132160"/>
              <a:ext cx="6983280" cy="171972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Hexagon 68"/>
            <p:cNvSpPr/>
            <p:nvPr/>
          </p:nvSpPr>
          <p:spPr>
            <a:xfrm rot="1800000">
              <a:off x="2995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Hexagon 71"/>
            <p:cNvSpPr/>
            <p:nvPr/>
          </p:nvSpPr>
          <p:spPr>
            <a:xfrm rot="1800000">
              <a:off x="372024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Hexagon 72"/>
            <p:cNvSpPr/>
            <p:nvPr/>
          </p:nvSpPr>
          <p:spPr>
            <a:xfrm rot="1800000">
              <a:off x="3729600" y="15919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Hexagon 73"/>
            <p:cNvSpPr/>
            <p:nvPr/>
          </p:nvSpPr>
          <p:spPr>
            <a:xfrm rot="1800000">
              <a:off x="2977200" y="325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Hexagon 74"/>
            <p:cNvSpPr/>
            <p:nvPr/>
          </p:nvSpPr>
          <p:spPr>
            <a:xfrm rot="1800000">
              <a:off x="4463280" y="5383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Freeform 75"/>
            <p:cNvSpPr/>
            <p:nvPr/>
          </p:nvSpPr>
          <p:spPr>
            <a:xfrm rot="1800000">
              <a:off x="-382320" y="4201200"/>
              <a:ext cx="1261440" cy="138816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Hexagon 76"/>
            <p:cNvSpPr/>
            <p:nvPr/>
          </p:nvSpPr>
          <p:spPr>
            <a:xfrm rot="1800000">
              <a:off x="24120" y="54021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Hexagon 77"/>
            <p:cNvSpPr/>
            <p:nvPr/>
          </p:nvSpPr>
          <p:spPr>
            <a:xfrm rot="1800000">
              <a:off x="52560" y="28494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Hexagon 78"/>
            <p:cNvSpPr/>
            <p:nvPr/>
          </p:nvSpPr>
          <p:spPr>
            <a:xfrm rot="1800000">
              <a:off x="77652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Hexagon 79"/>
            <p:cNvSpPr/>
            <p:nvPr/>
          </p:nvSpPr>
          <p:spPr>
            <a:xfrm rot="1800000">
              <a:off x="1510200" y="54115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Hexagon 80"/>
            <p:cNvSpPr/>
            <p:nvPr/>
          </p:nvSpPr>
          <p:spPr>
            <a:xfrm rot="1800000">
              <a:off x="1528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Hexagon 81"/>
            <p:cNvSpPr/>
            <p:nvPr/>
          </p:nvSpPr>
          <p:spPr>
            <a:xfrm rot="1800000">
              <a:off x="795600" y="1563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Hexagon 82"/>
            <p:cNvSpPr/>
            <p:nvPr/>
          </p:nvSpPr>
          <p:spPr>
            <a:xfrm rot="1800000">
              <a:off x="6806520" y="41446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Hexagon 83"/>
            <p:cNvSpPr/>
            <p:nvPr/>
          </p:nvSpPr>
          <p:spPr>
            <a:xfrm rot="1800000">
              <a:off x="7549560" y="542124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Hexagon 84"/>
            <p:cNvSpPr/>
            <p:nvPr/>
          </p:nvSpPr>
          <p:spPr>
            <a:xfrm rot="1800000">
              <a:off x="7549560" y="2868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Freeform 85"/>
            <p:cNvSpPr/>
            <p:nvPr/>
          </p:nvSpPr>
          <p:spPr>
            <a:xfrm rot="1800000">
              <a:off x="8306640" y="4055760"/>
              <a:ext cx="1243440" cy="138816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Freeform 86"/>
            <p:cNvSpPr/>
            <p:nvPr/>
          </p:nvSpPr>
          <p:spPr>
            <a:xfrm rot="1800000">
              <a:off x="8307360" y="1511280"/>
              <a:ext cx="124200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2" name="Rectangle 123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6c6c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Rectangle 124"/>
          <p:cNvSpPr/>
          <p:nvPr/>
        </p:nvSpPr>
        <p:spPr>
          <a:xfrm>
            <a:off x="4649760" y="-22320"/>
            <a:ext cx="3505320" cy="2313000"/>
          </a:xfrm>
          <a:prstGeom prst="rect">
            <a:avLst/>
          </a:prstGeom>
          <a:solidFill>
            <a:srgbClr val="7260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Rectangle 125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Rectangle 126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d0101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ad0101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ad0101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ad0101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ad0101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ad0101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ad0101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738320" y="1515960"/>
            <a:ext cx="213372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5303880" y="5719680"/>
            <a:ext cx="2830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4649760" y="5719680"/>
            <a:ext cx="642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d010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AAD59-0CF2-417A-AEF9-C020A4A2603F}" type="slidenum">
              <a:rPr b="0" lang="en-US" sz="1200" spc="-1" strike="noStrike">
                <a:solidFill>
                  <a:srgbClr val="ad010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cfd2"/>
            </a:gs>
            <a:gs pos="100000">
              <a:srgbClr val="83838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60"/>
          <p:cNvGrpSpPr/>
          <p:nvPr/>
        </p:nvGrpSpPr>
        <p:grpSpPr>
          <a:xfrm>
            <a:off x="-645120" y="0"/>
            <a:ext cx="10459080" cy="7116840"/>
            <a:chOff x="-645120" y="0"/>
            <a:chExt cx="10459080" cy="7116840"/>
          </a:xfrm>
        </p:grpSpPr>
        <p:grpSp>
          <p:nvGrpSpPr>
            <p:cNvPr id="168" name="Group 61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169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170" name="Rectangle 120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71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72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73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174" name="Rectangle 117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75" name="Rectangle 118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76" name="Rectangle 119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77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178" name="Rectangle 93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79" name="Rectangle 115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80" name="Rectangle 116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181" name="Rectangle 90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2" name="Rectangle 91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3" name="Rectangle 92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84" name="Freeform 62"/>
            <p:cNvSpPr/>
            <p:nvPr/>
          </p:nvSpPr>
          <p:spPr>
            <a:xfrm>
              <a:off x="-11880" y="5035320"/>
              <a:ext cx="9144720" cy="117540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5" name="Freeform 63"/>
            <p:cNvSpPr/>
            <p:nvPr/>
          </p:nvSpPr>
          <p:spPr>
            <a:xfrm>
              <a:off x="-11880" y="3467520"/>
              <a:ext cx="9144720" cy="89064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" name="Freeform 64"/>
            <p:cNvSpPr/>
            <p:nvPr/>
          </p:nvSpPr>
          <p:spPr>
            <a:xfrm>
              <a:off x="-23760" y="5640840"/>
              <a:ext cx="300456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" name="Freeform 66"/>
            <p:cNvSpPr/>
            <p:nvPr/>
          </p:nvSpPr>
          <p:spPr>
            <a:xfrm>
              <a:off x="-11880" y="5284440"/>
              <a:ext cx="9144720" cy="147852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" name="Freeform 67"/>
            <p:cNvSpPr/>
            <p:nvPr/>
          </p:nvSpPr>
          <p:spPr>
            <a:xfrm>
              <a:off x="2137320" y="5132160"/>
              <a:ext cx="6983280" cy="171972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" name="Hexagon 68"/>
            <p:cNvSpPr/>
            <p:nvPr/>
          </p:nvSpPr>
          <p:spPr>
            <a:xfrm rot="1800000">
              <a:off x="2995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0" name="Hexagon 71"/>
            <p:cNvSpPr/>
            <p:nvPr/>
          </p:nvSpPr>
          <p:spPr>
            <a:xfrm rot="1800000">
              <a:off x="372024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" name="Hexagon 72"/>
            <p:cNvSpPr/>
            <p:nvPr/>
          </p:nvSpPr>
          <p:spPr>
            <a:xfrm rot="1800000">
              <a:off x="3729600" y="15919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2" name="Hexagon 73"/>
            <p:cNvSpPr/>
            <p:nvPr/>
          </p:nvSpPr>
          <p:spPr>
            <a:xfrm rot="1800000">
              <a:off x="2977200" y="325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3" name="Hexagon 74"/>
            <p:cNvSpPr/>
            <p:nvPr/>
          </p:nvSpPr>
          <p:spPr>
            <a:xfrm rot="1800000">
              <a:off x="4463280" y="5383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" name="Freeform 75"/>
            <p:cNvSpPr/>
            <p:nvPr/>
          </p:nvSpPr>
          <p:spPr>
            <a:xfrm rot="1800000">
              <a:off x="-382320" y="4201200"/>
              <a:ext cx="1261440" cy="138816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" name="Hexagon 76"/>
            <p:cNvSpPr/>
            <p:nvPr/>
          </p:nvSpPr>
          <p:spPr>
            <a:xfrm rot="1800000">
              <a:off x="24120" y="54021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6" name="Hexagon 77"/>
            <p:cNvSpPr/>
            <p:nvPr/>
          </p:nvSpPr>
          <p:spPr>
            <a:xfrm rot="1800000">
              <a:off x="52560" y="28494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7" name="Hexagon 78"/>
            <p:cNvSpPr/>
            <p:nvPr/>
          </p:nvSpPr>
          <p:spPr>
            <a:xfrm rot="1800000">
              <a:off x="77652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8" name="Hexagon 79"/>
            <p:cNvSpPr/>
            <p:nvPr/>
          </p:nvSpPr>
          <p:spPr>
            <a:xfrm rot="1800000">
              <a:off x="1510200" y="54115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9" name="Hexagon 80"/>
            <p:cNvSpPr/>
            <p:nvPr/>
          </p:nvSpPr>
          <p:spPr>
            <a:xfrm rot="1800000">
              <a:off x="1528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0" name="Hexagon 81"/>
            <p:cNvSpPr/>
            <p:nvPr/>
          </p:nvSpPr>
          <p:spPr>
            <a:xfrm rot="1800000">
              <a:off x="795600" y="1563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1" name="Hexagon 82"/>
            <p:cNvSpPr/>
            <p:nvPr/>
          </p:nvSpPr>
          <p:spPr>
            <a:xfrm rot="1800000">
              <a:off x="6806520" y="41446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2" name="Hexagon 83"/>
            <p:cNvSpPr/>
            <p:nvPr/>
          </p:nvSpPr>
          <p:spPr>
            <a:xfrm rot="1800000">
              <a:off x="7549560" y="542124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3" name="Hexagon 84"/>
            <p:cNvSpPr/>
            <p:nvPr/>
          </p:nvSpPr>
          <p:spPr>
            <a:xfrm rot="1800000">
              <a:off x="7549560" y="2868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4" name="Freeform 85"/>
            <p:cNvSpPr/>
            <p:nvPr/>
          </p:nvSpPr>
          <p:spPr>
            <a:xfrm rot="1800000">
              <a:off x="8306640" y="4055760"/>
              <a:ext cx="1243440" cy="138816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5" name="Freeform 86"/>
            <p:cNvSpPr/>
            <p:nvPr/>
          </p:nvSpPr>
          <p:spPr>
            <a:xfrm rot="1800000">
              <a:off x="8307360" y="1511280"/>
              <a:ext cx="124200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06" name="Rectangle 123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6c6c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124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260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Rectangle 125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Rectangle 126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d0101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ad0101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ad0101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ad0101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ad0101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ad0101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ad0101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7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sldNum" idx="8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7058B-F366-42F5-8FB3-8FCF6D0DE8E2}" type="slidenum"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ftr" idx="9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cfd2"/>
            </a:gs>
            <a:gs pos="100000">
              <a:srgbClr val="83838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Group 60"/>
          <p:cNvGrpSpPr/>
          <p:nvPr/>
        </p:nvGrpSpPr>
        <p:grpSpPr>
          <a:xfrm>
            <a:off x="-645120" y="0"/>
            <a:ext cx="10459080" cy="7116840"/>
            <a:chOff x="-645120" y="0"/>
            <a:chExt cx="10459080" cy="7116840"/>
          </a:xfrm>
        </p:grpSpPr>
        <p:grpSp>
          <p:nvGrpSpPr>
            <p:cNvPr id="252" name="Group 61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253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254" name="Rectangle 120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5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6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57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258" name="Rectangle 117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9" name="Rectangle 118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60" name="Rectangle 119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61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262" name="Rectangle 93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63" name="Rectangle 115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64" name="Rectangle 116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265" name="Rectangle 90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6" name="Rectangle 91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7" name="Rectangle 92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68" name="Freeform 62"/>
            <p:cNvSpPr/>
            <p:nvPr/>
          </p:nvSpPr>
          <p:spPr>
            <a:xfrm>
              <a:off x="-11880" y="5035320"/>
              <a:ext cx="9144720" cy="117540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9" name="Freeform 63"/>
            <p:cNvSpPr/>
            <p:nvPr/>
          </p:nvSpPr>
          <p:spPr>
            <a:xfrm>
              <a:off x="-11880" y="3467520"/>
              <a:ext cx="9144720" cy="89064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0" name="Freeform 64"/>
            <p:cNvSpPr/>
            <p:nvPr/>
          </p:nvSpPr>
          <p:spPr>
            <a:xfrm>
              <a:off x="-23760" y="5640840"/>
              <a:ext cx="300456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1" name="Freeform 66"/>
            <p:cNvSpPr/>
            <p:nvPr/>
          </p:nvSpPr>
          <p:spPr>
            <a:xfrm>
              <a:off x="-11880" y="5284440"/>
              <a:ext cx="9144720" cy="147852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2" name="Freeform 67"/>
            <p:cNvSpPr/>
            <p:nvPr/>
          </p:nvSpPr>
          <p:spPr>
            <a:xfrm>
              <a:off x="2137320" y="5132160"/>
              <a:ext cx="6983280" cy="171972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3" name="Hexagon 68"/>
            <p:cNvSpPr/>
            <p:nvPr/>
          </p:nvSpPr>
          <p:spPr>
            <a:xfrm rot="1800000">
              <a:off x="2995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4" name="Hexagon 71"/>
            <p:cNvSpPr/>
            <p:nvPr/>
          </p:nvSpPr>
          <p:spPr>
            <a:xfrm rot="1800000">
              <a:off x="372024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5" name="Hexagon 72"/>
            <p:cNvSpPr/>
            <p:nvPr/>
          </p:nvSpPr>
          <p:spPr>
            <a:xfrm rot="1800000">
              <a:off x="3729600" y="15919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6" name="Hexagon 73"/>
            <p:cNvSpPr/>
            <p:nvPr/>
          </p:nvSpPr>
          <p:spPr>
            <a:xfrm rot="1800000">
              <a:off x="2977200" y="325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7" name="Hexagon 74"/>
            <p:cNvSpPr/>
            <p:nvPr/>
          </p:nvSpPr>
          <p:spPr>
            <a:xfrm rot="1800000">
              <a:off x="4463280" y="5383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8" name="Freeform 75"/>
            <p:cNvSpPr/>
            <p:nvPr/>
          </p:nvSpPr>
          <p:spPr>
            <a:xfrm rot="1800000">
              <a:off x="-382320" y="4201200"/>
              <a:ext cx="1261440" cy="138816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9" name="Hexagon 76"/>
            <p:cNvSpPr/>
            <p:nvPr/>
          </p:nvSpPr>
          <p:spPr>
            <a:xfrm rot="1800000">
              <a:off x="24120" y="54021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0" name="Hexagon 77"/>
            <p:cNvSpPr/>
            <p:nvPr/>
          </p:nvSpPr>
          <p:spPr>
            <a:xfrm rot="1800000">
              <a:off x="52560" y="28494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1" name="Hexagon 78"/>
            <p:cNvSpPr/>
            <p:nvPr/>
          </p:nvSpPr>
          <p:spPr>
            <a:xfrm rot="1800000">
              <a:off x="77652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2" name="Hexagon 79"/>
            <p:cNvSpPr/>
            <p:nvPr/>
          </p:nvSpPr>
          <p:spPr>
            <a:xfrm rot="1800000">
              <a:off x="1510200" y="54115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3" name="Hexagon 80"/>
            <p:cNvSpPr/>
            <p:nvPr/>
          </p:nvSpPr>
          <p:spPr>
            <a:xfrm rot="1800000">
              <a:off x="1528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4" name="Hexagon 81"/>
            <p:cNvSpPr/>
            <p:nvPr/>
          </p:nvSpPr>
          <p:spPr>
            <a:xfrm rot="1800000">
              <a:off x="795600" y="1563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5" name="Hexagon 82"/>
            <p:cNvSpPr/>
            <p:nvPr/>
          </p:nvSpPr>
          <p:spPr>
            <a:xfrm rot="1800000">
              <a:off x="6806520" y="41446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6" name="Hexagon 83"/>
            <p:cNvSpPr/>
            <p:nvPr/>
          </p:nvSpPr>
          <p:spPr>
            <a:xfrm rot="1800000">
              <a:off x="7549560" y="542124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7" name="Hexagon 84"/>
            <p:cNvSpPr/>
            <p:nvPr/>
          </p:nvSpPr>
          <p:spPr>
            <a:xfrm rot="1800000">
              <a:off x="7549560" y="2868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8" name="Freeform 85"/>
            <p:cNvSpPr/>
            <p:nvPr/>
          </p:nvSpPr>
          <p:spPr>
            <a:xfrm rot="1800000">
              <a:off x="8306640" y="4055760"/>
              <a:ext cx="1243440" cy="138816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9" name="Freeform 86"/>
            <p:cNvSpPr/>
            <p:nvPr/>
          </p:nvSpPr>
          <p:spPr>
            <a:xfrm rot="1800000">
              <a:off x="8307360" y="1511280"/>
              <a:ext cx="124200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90" name="Rectangle 123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6c6c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Rectangle 124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260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Rectangle 125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1818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Rectangle 126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d0101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ad0101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ad0101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ad0101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ad0101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ad0101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ad0101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0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11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12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C9879-92E0-4E16-8ECB-4F7A95A1F011}" type="slidenum"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733640" y="2707920"/>
            <a:ext cx="3313080" cy="170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d0101"/>
                </a:solidFill>
                <a:latin typeface="Century Gothic"/>
              </a:rPr>
              <a:t>China &amp; Japan</a:t>
            </a:r>
            <a:endParaRPr b="0" lang="en-US" sz="3600" spc="-1" strike="noStrike">
              <a:solidFill>
                <a:srgbClr val="ad0101"/>
              </a:solidFill>
              <a:latin typeface="Century Gothic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4734000" y="4420800"/>
            <a:ext cx="330984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24242"/>
              </a:solidFill>
              <a:latin typeface="Century Gothic"/>
            </a:endParaRPr>
          </a:p>
        </p:txBody>
      </p:sp>
      <p:pic>
        <p:nvPicPr>
          <p:cNvPr id="337" name="Picture 4" descr=""/>
          <p:cNvPicPr/>
          <p:nvPr/>
        </p:nvPicPr>
        <p:blipFill>
          <a:blip r:embed="rId1"/>
          <a:stretch/>
        </p:blipFill>
        <p:spPr>
          <a:xfrm>
            <a:off x="1066680" y="3102120"/>
            <a:ext cx="2837160" cy="375588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5" descr=""/>
          <p:cNvPicPr/>
          <p:nvPr/>
        </p:nvPicPr>
        <p:blipFill>
          <a:blip r:embed="rId2"/>
          <a:stretch/>
        </p:blipFill>
        <p:spPr>
          <a:xfrm>
            <a:off x="0" y="0"/>
            <a:ext cx="4497480" cy="30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d0101"/>
                </a:solidFill>
                <a:latin typeface="Century Gothic"/>
              </a:rPr>
              <a:t>Empress Cixi</a:t>
            </a:r>
            <a:endParaRPr b="0" lang="en-US" sz="4000" spc="-1" strike="noStrike">
              <a:solidFill>
                <a:srgbClr val="ad0101"/>
              </a:solidFill>
              <a:latin typeface="Century Gothic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533160" y="990360"/>
            <a:ext cx="83818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ad0101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Who: The Qing Dowager Empress, ruler of China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ad0101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What: she ruled while baby Emperors were “on the throne”; was committed to tradition but supported some reforms (Self-Strengthening) but not a lot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ad0101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Where: China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ad0101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When: 1862-1908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ad0101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Why: many rebellions agnst her 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ad0101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= she finally agreed to reform 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gov’t = constitutional monarchy 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= end to China’s Empire!!! 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pic>
        <p:nvPicPr>
          <p:cNvPr id="359" name="Picture 4" descr=""/>
          <p:cNvPicPr/>
          <p:nvPr/>
        </p:nvPicPr>
        <p:blipFill>
          <a:blip r:embed="rId1"/>
          <a:stretch/>
        </p:blipFill>
        <p:spPr>
          <a:xfrm>
            <a:off x="5865840" y="2666880"/>
            <a:ext cx="3278160" cy="418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d0101"/>
              </a:solidFill>
              <a:latin typeface="Century Gothic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ad0101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After the rebellions &amp; during her rule, foreigners took advantage of this… 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d0101"/>
                </a:solidFill>
                <a:latin typeface="Century Gothic"/>
              </a:rPr>
              <a:t>External Probs..</a:t>
            </a:r>
            <a:endParaRPr b="0" lang="en-US" sz="4000" spc="-1" strike="noStrike">
              <a:solidFill>
                <a:srgbClr val="ad0101"/>
              </a:solidFill>
              <a:latin typeface="Century Gothic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2. Foreign power took advantage of internal probs &amp; rebellions = they attacked China &amp; got : Sphere of Influence &amp; Open Door policy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d0101"/>
                </a:solidFill>
                <a:latin typeface="Century Gothic"/>
              </a:rPr>
              <a:t>Sphere of Influence</a:t>
            </a:r>
            <a:endParaRPr b="0" lang="en-US" sz="4000" spc="-1" strike="noStrike">
              <a:solidFill>
                <a:srgbClr val="ad0101"/>
              </a:solidFill>
              <a:latin typeface="Century Gothic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Century Gothic"/>
              </a:rPr>
              <a:t>Who: Europeans in China &amp; Japanese</a:t>
            </a:r>
            <a:endParaRPr b="0" lang="en-US" sz="2200" spc="-1" strike="noStrike">
              <a:solidFill>
                <a:srgbClr val="303030"/>
              </a:solidFill>
              <a:latin typeface="Century Gothic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Century Gothic"/>
              </a:rPr>
              <a:t>What: a strong foothold in China where a foreign nation controlled trade &amp; investments in a given area inside China (not China)</a:t>
            </a:r>
            <a:endParaRPr b="0" lang="en-US" sz="2200" spc="-1" strike="noStrike">
              <a:solidFill>
                <a:srgbClr val="303030"/>
              </a:solidFill>
              <a:latin typeface="Century Gothic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Century Gothic"/>
              </a:rPr>
              <a:t>Where: China</a:t>
            </a:r>
            <a:endParaRPr b="0" lang="en-US" sz="2200" spc="-1" strike="noStrike">
              <a:solidFill>
                <a:srgbClr val="303030"/>
              </a:solidFill>
              <a:latin typeface="Century Gothic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Century Gothic"/>
              </a:rPr>
              <a:t>When: Late 1800s</a:t>
            </a:r>
            <a:endParaRPr b="0" lang="en-US" sz="2200" spc="-1" strike="noStrike">
              <a:solidFill>
                <a:srgbClr val="303030"/>
              </a:solidFill>
              <a:latin typeface="Century Gothic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Century Gothic"/>
              </a:rPr>
              <a:t>Why: This gave increasing economic power to foreigners in China- NOT the Chinese; this worried Americans = Open Door policy</a:t>
            </a:r>
            <a:endParaRPr b="0" lang="en-US" sz="2200" spc="-1" strike="noStrike">
              <a:solidFill>
                <a:srgbClr val="30303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d0101"/>
                </a:solidFill>
                <a:latin typeface="Century Gothic"/>
              </a:rPr>
              <a:t>Open Door policy</a:t>
            </a:r>
            <a:endParaRPr b="0" lang="en-US" sz="4000" spc="-1" strike="noStrike">
              <a:solidFill>
                <a:srgbClr val="ad0101"/>
              </a:solidFill>
              <a:latin typeface="Century Gothic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45720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ad0101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Who: Americans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ad0101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What: a policy that “opened” the doors of China’s economy to merchants of all nations to keep the US safe from being shut out by other nations economically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ad0101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Where: China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ad0101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When: 1899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ad0101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Why: protected US trading rights in China; protected China from being colonized; but China was now under foreign control economically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ad0101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d0101"/>
              </a:solidFill>
              <a:latin typeface="Century Gothic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ad0101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All of this increasing discontent… led to… 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d0101"/>
                </a:solidFill>
                <a:latin typeface="Century Gothic"/>
              </a:rPr>
              <a:t>Internal Probs (cont’d) </a:t>
            </a:r>
            <a:endParaRPr b="0" lang="en-US" sz="4000" spc="-1" strike="noStrike">
              <a:solidFill>
                <a:srgbClr val="ad0101"/>
              </a:solidFill>
              <a:latin typeface="Century Gothic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ad0101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5. Nationalism- Boxer Rebellion- against Empress Cixi &amp; foreigners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d0101"/>
                </a:solidFill>
                <a:latin typeface="Century Gothic"/>
              </a:rPr>
              <a:t>Boxer Rebellion</a:t>
            </a:r>
            <a:endParaRPr b="0" lang="en-US" sz="4000" spc="-1" strike="noStrike">
              <a:solidFill>
                <a:srgbClr val="ad0101"/>
              </a:solidFill>
              <a:latin typeface="Century Gothic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456840" y="914040"/>
            <a:ext cx="85345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ad0101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Who: Poor Chinese peasants &amp; workers aka Boxers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ad0101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What: they formed a “Society of Righteous &amp; Harmonious Fists” agnst the Empress &amp; Foreigners -&gt; Rebelled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ad0101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Where: China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ad0101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When: 1900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ad0101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Why: rebellion failed BUT Nationalism emerged, Chinese realized they must resist foreign intervention &amp; they wanted the gov’t more responsive to their needs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ad0101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d0101"/>
              </a:solidFill>
              <a:latin typeface="Century Gothic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ad0101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Eventually, Empress Cixi “died”– some thought under mysterious circumstances…. (Hmm… wonder why?!)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ad0101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= a boy Emperor came to power &amp; was killed!!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ad0101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= change in government which we will talk about later… (Next chapter)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733640" y="2707920"/>
            <a:ext cx="3313080" cy="170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d0101"/>
                </a:solidFill>
                <a:latin typeface="Century Gothic"/>
              </a:rPr>
              <a:t>Japan</a:t>
            </a:r>
            <a:endParaRPr b="0" lang="en-US" sz="3600" spc="-1" strike="noStrike">
              <a:solidFill>
                <a:srgbClr val="ad0101"/>
              </a:solidFill>
              <a:latin typeface="Century Gothic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4734000" y="4420800"/>
            <a:ext cx="330984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24242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d0101"/>
                </a:solidFill>
                <a:latin typeface="Century Gothic"/>
              </a:rPr>
              <a:t>Background</a:t>
            </a:r>
            <a:endParaRPr b="0" lang="en-US" sz="4000" spc="-1" strike="noStrike">
              <a:solidFill>
                <a:srgbClr val="ad0101"/>
              </a:solidFill>
              <a:latin typeface="Century Gothic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ad0101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China had been resisting outside influence from the West- didn’t want the negative influences of the worldly West…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ad0101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Didn’t trade w/ the West b.c. China was self-sufficient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ad0101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This made the West mad and WANT IN!!! 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ad0101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So, they needed to come up with something the Chinese would buy in mass supply!!....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d0101"/>
              </a:solidFill>
              <a:latin typeface="Century Gothic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561600" y="609480"/>
            <a:ext cx="6777000" cy="350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ad0101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Like China, Japan was also isolated from the West &amp; didn’t want to trade w/ them…  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ad0101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BUT Just like China, the Westerners pushed their way in!!! 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ad0101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As a result, 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ad0101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Japan MODERNIZED… 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pic>
        <p:nvPicPr>
          <p:cNvPr id="380" name="Picture 4" descr=""/>
          <p:cNvPicPr/>
          <p:nvPr/>
        </p:nvPicPr>
        <p:blipFill>
          <a:blip r:embed="rId1"/>
          <a:stretch/>
        </p:blipFill>
        <p:spPr>
          <a:xfrm>
            <a:off x="5567400" y="2438280"/>
            <a:ext cx="3600360" cy="442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d0101"/>
                </a:solidFill>
                <a:latin typeface="Century Gothic"/>
              </a:rPr>
              <a:t>Causes of Modernization</a:t>
            </a:r>
            <a:endParaRPr b="0" lang="en-US" sz="4000" spc="-1" strike="noStrike">
              <a:solidFill>
                <a:srgbClr val="ad0101"/>
              </a:solidFill>
              <a:latin typeface="Century Gothic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01"/>
              </a:spcBef>
              <a:buClr>
                <a:srgbClr val="ad0101"/>
              </a:buClr>
              <a:buSzPct val="76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Westerners forced their way into Japan to trade with them 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 lvl="1" marL="39996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Century Gothic"/>
              </a:rPr>
              <a:t>	</a:t>
            </a:r>
            <a:r>
              <a:rPr b="0" lang="en-US" sz="2200" spc="-1" strike="noStrike">
                <a:solidFill>
                  <a:srgbClr val="303030"/>
                </a:solidFill>
                <a:latin typeface="Century Gothic"/>
              </a:rPr>
              <a:t>- Treaty of Kanagawa</a:t>
            </a:r>
            <a:endParaRPr b="0" lang="en-US" sz="2200" spc="-1" strike="noStrike">
              <a:solidFill>
                <a:srgbClr val="303030"/>
              </a:solidFill>
              <a:latin typeface="Century Gothic"/>
            </a:endParaRPr>
          </a:p>
          <a:p>
            <a:pPr marL="514440" indent="-514440">
              <a:spcBef>
                <a:spcPts val="601"/>
              </a:spcBef>
              <a:buClr>
                <a:srgbClr val="ad0101"/>
              </a:buClr>
              <a:buSzPct val="76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Shogun stepped down, Emperor took control = Meiji Era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 marL="514440" indent="-514440">
              <a:spcBef>
                <a:spcPts val="601"/>
              </a:spcBef>
              <a:buClr>
                <a:srgbClr val="ad0101"/>
              </a:buClr>
              <a:buSzPct val="76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Emperor realized he had to modernize to counter the West- Adapted to Western ways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d0101"/>
                </a:solidFill>
                <a:latin typeface="Century Gothic"/>
              </a:rPr>
              <a:t>Treaty of Kanagawa</a:t>
            </a:r>
            <a:endParaRPr b="0" lang="en-US" sz="4000" spc="-1" strike="noStrike">
              <a:solidFill>
                <a:srgbClr val="ad0101"/>
              </a:solidFill>
              <a:latin typeface="Century Gothic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ad0101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Who: Matthew Perry (USA) vs. Japanese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ad0101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What: a treaty between the US &amp; Japan that opened 2 ports in Japan where US could take supplies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ad0101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Where: Japan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ad0101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When: 1854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ad0101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Why: The US had pushed open the door in Japan = other European powers followed = foreigners were now allowed in Japan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d0101"/>
                </a:solidFill>
                <a:latin typeface="Century Gothic"/>
              </a:rPr>
              <a:t>Meiji Era</a:t>
            </a:r>
            <a:endParaRPr b="0" lang="en-US" sz="4000" spc="-1" strike="noStrike">
              <a:solidFill>
                <a:srgbClr val="ad0101"/>
              </a:solidFill>
              <a:latin typeface="Century Gothic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53352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ad0101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Who: Emperor Mutsuhito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ad0101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What: the time period of Mutsuhito’s reign that meant “enlightened rule” where he kicked out the military dictator &amp; ruled himself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ad0101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Where: Japan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ad0101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When: 1867-1912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ad0101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Why: during this time, Japan modernized and became a world power that was the #1 strength in Asia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d0101"/>
                </a:solidFill>
                <a:latin typeface="Century Gothic"/>
              </a:rPr>
              <a:t>Effects of Modernization</a:t>
            </a:r>
            <a:endParaRPr b="0" lang="en-US" sz="4000" spc="-1" strike="noStrike">
              <a:solidFill>
                <a:srgbClr val="ad0101"/>
              </a:solidFill>
              <a:latin typeface="Century Gothic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601"/>
              </a:spcBef>
              <a:buClr>
                <a:srgbClr val="ad0101"/>
              </a:buClr>
              <a:buSzPct val="76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Changed gov’t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 lvl="1" marL="39996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Century Gothic"/>
              </a:rPr>
              <a:t>- Made a Constitution &amp; legal codes similar to Europe’s- no longer military dictatorship</a:t>
            </a:r>
            <a:endParaRPr b="0" lang="en-US" sz="2200" spc="-1" strike="noStrike">
              <a:solidFill>
                <a:srgbClr val="303030"/>
              </a:solidFill>
              <a:latin typeface="Century Gothic"/>
            </a:endParaRPr>
          </a:p>
          <a:p>
            <a:pPr marL="514440" indent="-514440">
              <a:lnSpc>
                <a:spcPct val="90000"/>
              </a:lnSpc>
              <a:spcBef>
                <a:spcPts val="601"/>
              </a:spcBef>
              <a:buClr>
                <a:srgbClr val="ad0101"/>
              </a:buClr>
              <a:buSzPct val="76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Improved education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 lvl="1" marL="39996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Century Gothic"/>
              </a:rPr>
              <a:t>- Adopted American universal public education- made all students go to school</a:t>
            </a:r>
            <a:endParaRPr b="0" lang="en-US" sz="2200" spc="-1" strike="noStrike">
              <a:solidFill>
                <a:srgbClr val="303030"/>
              </a:solidFill>
              <a:latin typeface="Century Gothic"/>
            </a:endParaRPr>
          </a:p>
          <a:p>
            <a:pPr marL="514440" indent="-514440">
              <a:lnSpc>
                <a:spcPct val="90000"/>
              </a:lnSpc>
              <a:spcBef>
                <a:spcPts val="601"/>
              </a:spcBef>
              <a:buClr>
                <a:srgbClr val="ad0101"/>
              </a:buClr>
              <a:buSzPct val="76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Industrialized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 lvl="1" marL="39996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Century Gothic"/>
              </a:rPr>
              <a:t>- Railroads, factories, shipbuilding, coal production</a:t>
            </a:r>
            <a:endParaRPr b="0" lang="en-US" sz="2200" spc="-1" strike="noStrike">
              <a:solidFill>
                <a:srgbClr val="30303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d0101"/>
              </a:solidFill>
              <a:latin typeface="Century Gothic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4. Improved military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- warships &amp; well trained soldiers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- strongest military in Asia! 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5. Gained strength &amp; power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- economic, military, &amp; political strength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- became imperialistic – starts taking over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- could compete with the West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d0101"/>
              </a:solidFill>
              <a:latin typeface="Century Gothic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ad0101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Examples of their new imperialism- they start taking over other Asian countries…. 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ad0101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They do this through wars… 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ad0101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Such as: 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d0101"/>
                </a:solidFill>
                <a:latin typeface="Century Gothic"/>
              </a:rPr>
              <a:t>Russo- Japanese War </a:t>
            </a:r>
            <a:endParaRPr b="0" lang="en-US" sz="4000" spc="-1" strike="noStrike">
              <a:solidFill>
                <a:srgbClr val="ad0101"/>
              </a:solidFill>
              <a:latin typeface="Century Gothic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264960">
              <a:spcBef>
                <a:spcPts val="601"/>
              </a:spcBef>
              <a:buClr>
                <a:srgbClr val="ad0101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Who: Russians vs. Japanese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 marL="332640" indent="-264960">
              <a:spcBef>
                <a:spcPts val="601"/>
              </a:spcBef>
              <a:buClr>
                <a:srgbClr val="ad0101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What: a war between the top 2 pwrs in Asia over who should control Manchuria (the area in b/n them)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 marL="332640" indent="-264960">
              <a:spcBef>
                <a:spcPts val="601"/>
              </a:spcBef>
              <a:buClr>
                <a:srgbClr val="ad0101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Where: Yellow Sea, coast of Machuria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 marL="332640" indent="-264960">
              <a:spcBef>
                <a:spcPts val="601"/>
              </a:spcBef>
              <a:buClr>
                <a:srgbClr val="ad0101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When: 1904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 marL="332640" indent="-264960">
              <a:spcBef>
                <a:spcPts val="601"/>
              </a:spcBef>
              <a:buClr>
                <a:srgbClr val="ad0101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Why: Japan destroyed Russia’s fleet &amp; won = Japan won Machuria &amp; the #1 power in Asia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d0101"/>
              </a:solidFill>
              <a:latin typeface="Century Gothic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ad0101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Now Japan is built up enough that they are ready for World War!! 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d0101"/>
                </a:solidFill>
                <a:latin typeface="Century Gothic"/>
              </a:rPr>
              <a:t>China vs. Japan in this time</a:t>
            </a:r>
            <a:endParaRPr b="0" lang="en-US" sz="4000" spc="-1" strike="noStrike">
              <a:solidFill>
                <a:srgbClr val="ad0101"/>
              </a:solidFill>
              <a:latin typeface="Century Gothic"/>
            </a:endParaRPr>
          </a:p>
        </p:txBody>
      </p:sp>
      <p:graphicFrame>
        <p:nvGraphicFramePr>
          <p:cNvPr id="398" name=""/>
          <p:cNvGraphicFramePr/>
          <p:nvPr/>
        </p:nvGraphicFramePr>
        <p:xfrm>
          <a:off x="1042920" y="2324160"/>
          <a:ext cx="6777000" cy="4576680"/>
        </p:xfrm>
        <a:graphic>
          <a:graphicData uri="http://schemas.openxmlformats.org/drawingml/2006/table">
            <a:tbl>
              <a:tblPr/>
              <a:tblGrid>
                <a:gridCol w="2259000"/>
                <a:gridCol w="2259000"/>
                <a:gridCol w="2259000"/>
              </a:tblGrid>
              <a:tr h="368280">
                <a:tc>
                  <a:txBody>
                    <a:bodyPr lIns="75240" rIns="752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Chi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5240" marR="75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d0101"/>
                    </a:solidFill>
                  </a:tcPr>
                </a:tc>
                <a:tc>
                  <a:txBody>
                    <a:bodyPr lIns="75240" rIns="752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Bo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5240" marR="75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d0101"/>
                    </a:solidFill>
                  </a:tcPr>
                </a:tc>
                <a:tc>
                  <a:txBody>
                    <a:bodyPr lIns="75240" rIns="752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Jap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5240" marR="75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d0101"/>
                    </a:solidFill>
                  </a:tcPr>
                </a:tc>
              </a:tr>
              <a:tr h="916920">
                <a:tc>
                  <a:txBody>
                    <a:bodyPr lIns="75240" rIns="752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Remains committed to tradi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5240" marR="75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cbcb"/>
                    </a:solidFill>
                  </a:tcPr>
                </a:tc>
                <a:tc>
                  <a:txBody>
                    <a:bodyPr lIns="75240" rIns="752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Have well-established traditional valu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5240" marR="75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cbcb"/>
                    </a:solidFill>
                  </a:tcPr>
                </a:tc>
                <a:tc>
                  <a:txBody>
                    <a:bodyPr lIns="75240" rIns="752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Considers modernization to be necessa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5240" marR="75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cbcb"/>
                    </a:solidFill>
                  </a:tcPr>
                </a:tc>
              </a:tr>
              <a:tr h="1191240">
                <a:tc>
                  <a:txBody>
                    <a:bodyPr lIns="75240" rIns="752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Loses numerous territorial conflic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5240" marR="75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e7e7"/>
                    </a:solidFill>
                  </a:tcPr>
                </a:tc>
                <a:tc>
                  <a:txBody>
                    <a:bodyPr lIns="75240" rIns="752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5240" marR="75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e7e7"/>
                    </a:solidFill>
                  </a:tcPr>
                </a:tc>
                <a:tc>
                  <a:txBody>
                    <a:bodyPr lIns="75240" rIns="752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Wins numerous territorial conflicts = becomes an Empire build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5240" marR="75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e7e7"/>
                    </a:solidFill>
                  </a:tcPr>
                </a:tc>
              </a:tr>
              <a:tr h="916920">
                <a:tc>
                  <a:txBody>
                    <a:bodyPr lIns="75240" rIns="752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Finally accepts need for refor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5240" marR="75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cbcb"/>
                    </a:solidFill>
                  </a:tcPr>
                </a:tc>
                <a:tc>
                  <a:txBody>
                    <a:bodyPr lIns="75240" rIns="752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Initially resists chan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5240" marR="75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cbcb"/>
                    </a:solidFill>
                  </a:tcPr>
                </a:tc>
                <a:tc>
                  <a:txBody>
                    <a:bodyPr lIns="75240" rIns="752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Borrows &amp; adapts Western ways to Modern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5240" marR="75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cbcb"/>
                    </a:solidFill>
                  </a:tcPr>
                </a:tc>
              </a:tr>
              <a:tr h="1191240">
                <a:tc>
                  <a:txBody>
                    <a:bodyPr lIns="75240" rIns="752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Grants other nations spheres of influence within Chi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5240" marR="75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e7e7"/>
                    </a:solidFill>
                  </a:tcPr>
                </a:tc>
                <a:tc>
                  <a:txBody>
                    <a:bodyPr lIns="75240" rIns="752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Oppose Western Imperialis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5240" marR="75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e7e7"/>
                    </a:solidFill>
                  </a:tcPr>
                </a:tc>
                <a:tc>
                  <a:txBody>
                    <a:bodyPr lIns="75240" rIns="752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Strengthens its economic &amp; military pow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5240" marR="75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e7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733640" y="2707920"/>
            <a:ext cx="3313080" cy="170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d0101"/>
                </a:solidFill>
                <a:latin typeface="Century Gothic"/>
              </a:rPr>
              <a:t>OPIUM!!!!</a:t>
            </a:r>
            <a:endParaRPr b="0" lang="en-US" sz="3600" spc="-1" strike="noStrike">
              <a:solidFill>
                <a:srgbClr val="ad0101"/>
              </a:solidFill>
              <a:latin typeface="Century Gothic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4734000" y="4420800"/>
            <a:ext cx="3309840" cy="12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24242"/>
                </a:solidFill>
                <a:latin typeface="Century Gothic"/>
              </a:rPr>
              <a:t>(it’s a drug… aka addicting!) </a:t>
            </a:r>
            <a:endParaRPr b="0" lang="en-US" sz="1800" spc="-1" strike="noStrike">
              <a:solidFill>
                <a:srgbClr val="303030"/>
              </a:solidFill>
              <a:latin typeface="Century Gothic"/>
            </a:endParaRPr>
          </a:p>
        </p:txBody>
      </p:sp>
      <p:pic>
        <p:nvPicPr>
          <p:cNvPr id="343" name="Picture 4" descr=""/>
          <p:cNvPicPr/>
          <p:nvPr/>
        </p:nvPicPr>
        <p:blipFill>
          <a:blip r:embed="rId1"/>
          <a:stretch/>
        </p:blipFill>
        <p:spPr>
          <a:xfrm>
            <a:off x="533520" y="838080"/>
            <a:ext cx="3595680" cy="479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d0101"/>
                </a:solidFill>
                <a:latin typeface="Century Gothic"/>
              </a:rPr>
              <a:t>External problems</a:t>
            </a:r>
            <a:endParaRPr b="0" lang="en-US" sz="4000" spc="-1" strike="noStrike">
              <a:solidFill>
                <a:srgbClr val="ad0101"/>
              </a:solidFill>
              <a:latin typeface="Century Gothic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1. British smuggled in Opium to the Chinese = Chinese became addicted = irritated Chinese gov’t = WAR!! 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d0101"/>
                </a:solidFill>
                <a:latin typeface="Century Gothic"/>
              </a:rPr>
              <a:t>Opium War</a:t>
            </a:r>
            <a:endParaRPr b="0" lang="en-US" sz="4000" spc="-1" strike="noStrike">
              <a:solidFill>
                <a:srgbClr val="ad0101"/>
              </a:solidFill>
              <a:latin typeface="Century Gothic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456840" y="13716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ad0101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ad0101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ad0101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Who: British vs. Chinese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ad0101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What: a war b/n British and Chinese about the British smuggling opium into China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ad0101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Where: China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ad0101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When: 1839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ad0101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Why: China had outdated ships vs GB’s new updated steam ships = China loses &amp; is humiliated = GB gets extraterritorial rights (HongKong)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ad0101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d0101"/>
              </a:solidFill>
              <a:latin typeface="Century Gothic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ad0101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While this was going on, China was experiencing a bunch in internal probs…. 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d0101"/>
                </a:solidFill>
                <a:latin typeface="Century Gothic"/>
              </a:rPr>
              <a:t>Internal Problems</a:t>
            </a:r>
            <a:endParaRPr b="0" lang="en-US" sz="4000" spc="-1" strike="noStrike">
              <a:solidFill>
                <a:srgbClr val="ad0101"/>
              </a:solidFill>
              <a:latin typeface="Century Gothic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550"/>
              </a:spcBef>
              <a:buClr>
                <a:srgbClr val="ad0101"/>
              </a:buClr>
              <a:buSzPct val="76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Century Gothic"/>
              </a:rPr>
              <a:t>Hunger- population grew 30% but food didn’t</a:t>
            </a:r>
            <a:endParaRPr b="0" lang="en-US" sz="2200" spc="-1" strike="noStrike">
              <a:solidFill>
                <a:srgbClr val="303030"/>
              </a:solidFill>
              <a:latin typeface="Century Gothic"/>
            </a:endParaRPr>
          </a:p>
          <a:p>
            <a:pPr marL="514440" indent="-514440">
              <a:spcBef>
                <a:spcPts val="550"/>
              </a:spcBef>
              <a:buClr>
                <a:srgbClr val="ad0101"/>
              </a:buClr>
              <a:buSzPct val="76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Century Gothic"/>
              </a:rPr>
              <a:t>Ppl were poor &amp; discouraged = more Opium drug addiction</a:t>
            </a:r>
            <a:endParaRPr b="0" lang="en-US" sz="2200" spc="-1" strike="noStrike">
              <a:solidFill>
                <a:srgbClr val="303030"/>
              </a:solidFill>
              <a:latin typeface="Century Gothic"/>
            </a:endParaRPr>
          </a:p>
          <a:p>
            <a:pPr marL="514440" indent="-514440">
              <a:spcBef>
                <a:spcPts val="550"/>
              </a:spcBef>
              <a:buClr>
                <a:srgbClr val="ad0101"/>
              </a:buClr>
              <a:buSzPct val="76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Century Gothic"/>
              </a:rPr>
              <a:t>Rebellion- Taiping Rebellion, Boxer Rebellion</a:t>
            </a:r>
            <a:endParaRPr b="0" lang="en-US" sz="2200" spc="-1" strike="noStrike">
              <a:solidFill>
                <a:srgbClr val="303030"/>
              </a:solidFill>
              <a:latin typeface="Century Gothic"/>
            </a:endParaRPr>
          </a:p>
          <a:p>
            <a:pPr marL="514440" indent="-514440">
              <a:spcBef>
                <a:spcPts val="550"/>
              </a:spcBef>
              <a:buClr>
                <a:srgbClr val="ad0101"/>
              </a:buClr>
              <a:buSzPct val="76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Century Gothic"/>
              </a:rPr>
              <a:t>Self- Strengthening movement- attempted reforms made ppl scared &amp; unhappy</a:t>
            </a:r>
            <a:endParaRPr b="0" lang="en-US" sz="2200" spc="-1" strike="noStrike">
              <a:solidFill>
                <a:srgbClr val="303030"/>
              </a:solidFill>
              <a:latin typeface="Century Gothic"/>
            </a:endParaRPr>
          </a:p>
          <a:p>
            <a:pPr marL="514440" indent="-514440">
              <a:spcBef>
                <a:spcPts val="550"/>
              </a:spcBef>
              <a:buClr>
                <a:srgbClr val="ad0101"/>
              </a:buClr>
              <a:buSzPct val="76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Century Gothic"/>
              </a:rPr>
              <a:t>(will come later.. After the External probs.. They are happening simultaneously)  </a:t>
            </a:r>
            <a:endParaRPr b="0" lang="en-US" sz="2200" spc="-1" strike="noStrike">
              <a:solidFill>
                <a:srgbClr val="30303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d0101"/>
                </a:solidFill>
                <a:latin typeface="Century Gothic"/>
              </a:rPr>
              <a:t>Taiping Rebellion</a:t>
            </a:r>
            <a:endParaRPr b="0" lang="en-US" sz="4000" spc="-1" strike="noStrike">
              <a:solidFill>
                <a:srgbClr val="ad0101"/>
              </a:solidFill>
              <a:latin typeface="Century Gothic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533160" y="1066680"/>
            <a:ext cx="830556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90000"/>
              </a:lnSpc>
              <a:spcBef>
                <a:spcPts val="550"/>
              </a:spcBef>
              <a:buClr>
                <a:srgbClr val="ad0101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550"/>
              </a:spcBef>
              <a:buClr>
                <a:srgbClr val="ad0101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Century Gothic"/>
              </a:rPr>
              <a:t>Who: Hong Xiuquan</a:t>
            </a:r>
            <a:endParaRPr b="0" lang="en-US" sz="2200" spc="-1" strike="noStrike">
              <a:solidFill>
                <a:srgbClr val="303030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550"/>
              </a:spcBef>
              <a:buClr>
                <a:srgbClr val="ad0101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550"/>
              </a:spcBef>
              <a:buClr>
                <a:srgbClr val="ad0101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550"/>
              </a:spcBef>
              <a:buClr>
                <a:srgbClr val="ad0101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550"/>
              </a:spcBef>
              <a:buClr>
                <a:srgbClr val="ad0101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550"/>
              </a:spcBef>
              <a:buClr>
                <a:srgbClr val="ad0101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Century Gothic"/>
              </a:rPr>
              <a:t>What: a rebellion against China’s gov’t where they wanted to create a “Kingdom of Heavenly Peace” where no one lived in poverty &amp; everyone shared in China’s wealth</a:t>
            </a:r>
            <a:endParaRPr b="0" lang="en-US" sz="2200" spc="-1" strike="noStrike">
              <a:solidFill>
                <a:srgbClr val="303030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550"/>
              </a:spcBef>
              <a:buClr>
                <a:srgbClr val="ad0101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Century Gothic"/>
              </a:rPr>
              <a:t>Where: China</a:t>
            </a:r>
            <a:endParaRPr b="0" lang="en-US" sz="2200" spc="-1" strike="noStrike">
              <a:solidFill>
                <a:srgbClr val="303030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550"/>
              </a:spcBef>
              <a:buClr>
                <a:srgbClr val="ad0101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Century Gothic"/>
              </a:rPr>
              <a:t>When: 1850s-1864</a:t>
            </a:r>
            <a:endParaRPr b="0" lang="en-US" sz="2200" spc="-1" strike="noStrike">
              <a:solidFill>
                <a:srgbClr val="303030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550"/>
              </a:spcBef>
              <a:buClr>
                <a:srgbClr val="ad0101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Century Gothic"/>
              </a:rPr>
              <a:t>Why: They  won &amp; took over China for awhile = they feuded among themselves for power = Qing + British + French kicked them out &amp; the Qing retook power</a:t>
            </a:r>
            <a:endParaRPr b="0" lang="en-US" sz="2200" spc="-1" strike="noStrike">
              <a:solidFill>
                <a:srgbClr val="303030"/>
              </a:solidFill>
              <a:latin typeface="Century Gothic"/>
            </a:endParaRPr>
          </a:p>
        </p:txBody>
      </p:sp>
      <p:pic>
        <p:nvPicPr>
          <p:cNvPr id="354" name="Picture 4" descr=""/>
          <p:cNvPicPr/>
          <p:nvPr/>
        </p:nvPicPr>
        <p:blipFill>
          <a:blip r:embed="rId1"/>
          <a:stretch/>
        </p:blipFill>
        <p:spPr>
          <a:xfrm>
            <a:off x="4529160" y="-27000"/>
            <a:ext cx="4614840" cy="33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d0101"/>
              </a:solidFill>
              <a:latin typeface="Century Gothic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ad0101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After the Taiping &amp; other rebellions, a lady came to power and ruled for the rest of China’s “Empire” or dynasty.. 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6T18:51:45Z</dcterms:created>
  <dc:creator>Windows User</dc:creator>
  <dc:description/>
  <dc:language>en-US</dc:language>
  <cp:lastModifiedBy>Windows User</cp:lastModifiedBy>
  <cp:lastPrinted>2012-03-08T18:54:08Z</cp:lastPrinted>
  <dcterms:modified xsi:type="dcterms:W3CDTF">2013-03-08T16:37:30Z</dcterms:modified>
  <cp:revision>27</cp:revision>
  <dc:subject/>
  <dc:title>China &amp; Japan</dc:title>
</cp:coreProperties>
</file>